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2E4667-7C08-4E08-B7CE-10E62EE96A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are both the correct electron configurations for iron (Fe).  So how do you write the shorthand version?</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D9DFC-6C88-461A-8610-A2BFADFA05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how to write the shortened version.</a:t>
            </a: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8D8DDB-2DDA-40B2-8526-53CA641FC0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does electron configuration tell us?  Basically, it tells us where all the electrons of an atom  are loca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number, the big one, tells us the orbital leve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letter tells us the shape of the orbit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number, the little super script, tells us the number of electrons in that orbit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the electron configuration for helium.</a:t>
            </a: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C13E50-DCF2-4D2F-86C8-2E2135AB25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why is that important?  It tells us what the electrons are doing, if they are excites, if they are available to react, etc.  You need to know this.  We will be getting into it more in reactions as well.</a:t>
            </a: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DB56CF-C0B5-4761-9575-7A13157D67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gives you the basic idea of how to start writing the electron configuration for any element on the periodic table.  Don’t worry, you will get lots of practice!!!</a:t>
            </a: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F376B9-7A79-47D9-9B30-B6EE635DD1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you how to add the F level in.  Keep in mind that it is between the s and d levels at period 6 and 7.  </a:t>
            </a: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4D38FC-6996-4CF7-A66F-8DCB0633FA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do you know the number to start with?  Do you just have to memorize it?  NO!  You start with the orbital number.  That is also the period number!  Down the side of the periodic table.  For the s and p levels, they are the period number.  For the d section, or the transition metals, it is the period number minus1.  For the f section, or the inner transition metals, it is the period number minus 2, but remember that they squeeze between the s and d levels!</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7443C8-0769-46F1-A0F7-79D995E8C8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12166-60D6-4173-AEC4-C11AFB08D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5A428-5180-4E4D-BD26-B8B1BFA02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57CB2-FB7A-4D91-86B4-8F4F28B56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62F06-745F-47C5-92DF-026560940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D61F0-D152-44DF-96FB-25A35E06B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97414-4334-447E-A074-528AF5F09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37BB0-2C63-48D8-A12B-8DB75B801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AB5BF-B555-4B6A-908D-F6C15DA1E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E1FDB-B931-452D-9D86-DF9C99693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B2622-8949-408A-A843-6AF18B09F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4EEAE-1D80-4B9B-87CB-2AB5580C5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36F68-D5F0-4019-BBFA-EC23192AD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DB8404-E191-49F5-92B4-01204BA6B9A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cture: Electron Configuratio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hemistr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Unit 5</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Part 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
          <p:cNvPicPr/>
          <p:nvPr/>
        </p:nvPicPr>
        <p:blipFill>
          <a:blip r:embed="rId1"/>
          <a:srcRect l="0" t="0" r="0" b="9987"/>
          <a:stretch/>
        </p:blipFill>
        <p:spPr>
          <a:xfrm>
            <a:off x="28440" y="698400"/>
            <a:ext cx="9115560" cy="4932360"/>
          </a:xfrm>
          <a:prstGeom prst="rect">
            <a:avLst/>
          </a:prstGeom>
          <a:ln w="0">
            <a:noFill/>
          </a:ln>
        </p:spPr>
      </p:pic>
      <p:sp>
        <p:nvSpPr>
          <p:cNvPr id="60" name="Rectangle 2"/>
          <p:cNvSpPr/>
          <p:nvPr/>
        </p:nvSpPr>
        <p:spPr>
          <a:xfrm>
            <a:off x="2603520" y="5100480"/>
            <a:ext cx="6159600" cy="530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1" descr=""/>
          <p:cNvPicPr/>
          <p:nvPr/>
        </p:nvPicPr>
        <p:blipFill>
          <a:blip r:embed="rId1"/>
          <a:stretch/>
        </p:blipFill>
        <p:spPr>
          <a:xfrm>
            <a:off x="0" y="561960"/>
            <a:ext cx="9136080" cy="572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 descr=""/>
          <p:cNvPicPr/>
          <p:nvPr/>
        </p:nvPicPr>
        <p:blipFill>
          <a:blip r:embed="rId1"/>
          <a:stretch/>
        </p:blipFill>
        <p:spPr>
          <a:xfrm>
            <a:off x="-4680" y="1143000"/>
            <a:ext cx="9148680" cy="5381640"/>
          </a:xfrm>
          <a:prstGeom prst="rect">
            <a:avLst/>
          </a:prstGeom>
          <a:ln w="0">
            <a:noFill/>
          </a:ln>
        </p:spPr>
      </p:pic>
      <p:sp>
        <p:nvSpPr>
          <p:cNvPr id="63" name="TextBox 2"/>
          <p:cNvSpPr/>
          <p:nvPr/>
        </p:nvSpPr>
        <p:spPr>
          <a:xfrm>
            <a:off x="1461600" y="210960"/>
            <a:ext cx="111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Jazz LET"/>
                <a:ea typeface="Jazz LET"/>
              </a:rPr>
              <a:t>Spi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 descr=""/>
          <p:cNvPicPr/>
          <p:nvPr/>
        </p:nvPicPr>
        <p:blipFill>
          <a:blip r:embed="rId1"/>
          <a:stretch/>
        </p:blipFill>
        <p:spPr>
          <a:xfrm>
            <a:off x="198360" y="0"/>
            <a:ext cx="4838760" cy="1676520"/>
          </a:xfrm>
          <a:prstGeom prst="rect">
            <a:avLst/>
          </a:prstGeom>
          <a:ln w="0">
            <a:noFill/>
          </a:ln>
        </p:spPr>
      </p:pic>
      <p:pic>
        <p:nvPicPr>
          <p:cNvPr id="65" name="Picture 2" descr=""/>
          <p:cNvPicPr/>
          <p:nvPr/>
        </p:nvPicPr>
        <p:blipFill>
          <a:blip r:embed="rId2"/>
          <a:stretch/>
        </p:blipFill>
        <p:spPr>
          <a:xfrm>
            <a:off x="0" y="1676520"/>
            <a:ext cx="7620120" cy="1396800"/>
          </a:xfrm>
          <a:prstGeom prst="rect">
            <a:avLst/>
          </a:prstGeom>
          <a:ln w="0">
            <a:noFill/>
          </a:ln>
        </p:spPr>
      </p:pic>
      <p:pic>
        <p:nvPicPr>
          <p:cNvPr id="66" name="Picture 3" descr=""/>
          <p:cNvPicPr/>
          <p:nvPr/>
        </p:nvPicPr>
        <p:blipFill>
          <a:blip r:embed="rId3"/>
          <a:srcRect l="5634" t="77227" r="33797" b="0"/>
          <a:stretch/>
        </p:blipFill>
        <p:spPr>
          <a:xfrm>
            <a:off x="0" y="3073320"/>
            <a:ext cx="7662960" cy="1308240"/>
          </a:xfrm>
          <a:prstGeom prst="rect">
            <a:avLst/>
          </a:prstGeom>
          <a:ln w="0">
            <a:noFill/>
          </a:ln>
        </p:spPr>
      </p:pic>
      <p:pic>
        <p:nvPicPr>
          <p:cNvPr id="67" name="Picture 4" descr=""/>
          <p:cNvPicPr/>
          <p:nvPr/>
        </p:nvPicPr>
        <p:blipFill>
          <a:blip r:embed="rId4"/>
          <a:srcRect l="0" t="33349" r="0" b="12322"/>
          <a:stretch/>
        </p:blipFill>
        <p:spPr>
          <a:xfrm>
            <a:off x="0" y="4211640"/>
            <a:ext cx="8178840" cy="133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ectron Configu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ectron Sp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act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 descr=""/>
          <p:cNvPicPr/>
          <p:nvPr/>
        </p:nvPicPr>
        <p:blipFill>
          <a:blip r:embed="rId1"/>
          <a:stretch/>
        </p:blipFill>
        <p:spPr>
          <a:xfrm>
            <a:off x="0" y="1090440"/>
            <a:ext cx="9144000" cy="467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
          <p:cNvPicPr/>
          <p:nvPr/>
        </p:nvPicPr>
        <p:blipFill>
          <a:blip r:embed="rId1"/>
          <a:stretch/>
        </p:blipFill>
        <p:spPr>
          <a:xfrm>
            <a:off x="0" y="541440"/>
            <a:ext cx="9144000" cy="532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0" y="45720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203040" y="482760"/>
            <a:ext cx="8737920" cy="589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 descr=""/>
          <p:cNvPicPr/>
          <p:nvPr/>
        </p:nvPicPr>
        <p:blipFill>
          <a:blip r:embed="rId1"/>
          <a:srcRect l="35881" t="0" r="0" b="50982"/>
          <a:stretch/>
        </p:blipFill>
        <p:spPr>
          <a:xfrm>
            <a:off x="254160" y="1028880"/>
            <a:ext cx="8889840" cy="441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0" y="571680"/>
            <a:ext cx="9144000" cy="570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
          <p:cNvPicPr/>
          <p:nvPr/>
        </p:nvPicPr>
        <p:blipFill>
          <a:blip r:embed="rId1"/>
          <a:stretch/>
        </p:blipFill>
        <p:spPr>
          <a:xfrm>
            <a:off x="11160" y="762120"/>
            <a:ext cx="9137520" cy="48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5T13:26:55Z</dcterms:created>
  <dc:creator>Staff</dc:creator>
  <dc:description/>
  <dc:language>en-US</dc:language>
  <cp:lastModifiedBy>Staff</cp:lastModifiedBy>
  <dcterms:modified xsi:type="dcterms:W3CDTF">2014-06-05T16:11:51Z</dcterms:modified>
  <cp:revision>9</cp:revision>
  <dc:subject/>
  <dc:title>Lecture: Electron Configuration</dc:title>
</cp:coreProperties>
</file>